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2428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008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16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ftr" idx="3"/>
          </p:nvPr>
        </p:nvSpPr>
        <p:spPr>
          <a:xfrm>
            <a:off x="-360" y="8832600"/>
            <a:ext cx="292428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 type="sldNum" idx="4"/>
          </p:nvPr>
        </p:nvSpPr>
        <p:spPr>
          <a:xfrm>
            <a:off x="3885840" y="8832600"/>
            <a:ext cx="292428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ADA1E-1C47-4971-ADAE-B41DA7894E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04840" y="69840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04840" y="698400"/>
            <a:ext cx="46339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4983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9ED6-3509-4ACB-A8DD-2A411BE1B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635472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4720" y="3169800"/>
            <a:ext cx="635472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ABC7-281F-44DE-9B93-6E45CCAEB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472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128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0F8F-7544-4CEC-B479-65443CB66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3200" y="144756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1680" y="144756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4720" y="316980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3200" y="316980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1680" y="3169800"/>
            <a:ext cx="204588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B240-8C44-45E6-980C-86820E9C02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4720" y="1447560"/>
            <a:ext cx="635472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01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DCBB-812D-4544-BCE7-3A4576110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635472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AAEB-B1EE-4832-94EA-54AD9DC77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303E-BD8E-40D7-9D75-6B339FC58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3E36-D982-4D81-9A25-51D516D82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4720" y="379080"/>
            <a:ext cx="6354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01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9ECE-8984-401E-AB12-F3940D544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472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F856-79C6-482E-A78D-B0189D2D8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1280" y="316980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7F80-84E3-4FFE-A03D-73B60F8BC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472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447560"/>
            <a:ext cx="310104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4720" y="3169800"/>
            <a:ext cx="6354720" cy="15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35D2-24BE-40A0-8113-13A7E1EE5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4720" y="379080"/>
            <a:ext cx="635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4720" y="1447560"/>
            <a:ext cx="635472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2708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0560" indent="-1047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2384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3760" indent="-921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63760" indent="-921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63760" indent="-92160">
              <a:lnSpc>
                <a:spcPct val="1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29240" y="5803920"/>
            <a:ext cx="63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F8901-7D9E-475E-A097-5C6A8E202452}" type="slidenum"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7913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49220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Propagation d’épidémie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la Rougeole à l'Unil-EPFL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95520" y="3600360"/>
            <a:ext cx="686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erviseur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ha Her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udiant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uno Pais &amp; Didier Langu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9 mai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573408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5805360"/>
            <a:ext cx="863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D61C-9F67-4F5D-AA9B-A23DAEA6A6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1440000"/>
            <a:ext cx="69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(dans le cas où on se trouve à l'Unil)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dS/d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= -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+ s · (S</a:t>
            </a:r>
            <a:r>
              <a:rPr b="0" lang="en-GB" sz="1200" spc="-1" strike="noStrike">
                <a:solidFill>
                  <a:srgbClr val="ff00ff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(t)-S(t)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6633"/>
                </a:solidFill>
                <a:latin typeface="Comic Sans MS"/>
              </a:rPr>
              <a:t>– u · v · S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dI/d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= 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- 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+ s · (I</a:t>
            </a:r>
            <a:r>
              <a:rPr b="0" lang="en-GB" sz="1200" spc="-1" strike="noStrike">
                <a:solidFill>
                  <a:srgbClr val="ff00ff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(t)-I(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dR/d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= 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) 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+ s · (R</a:t>
            </a:r>
            <a:r>
              <a:rPr b="0" lang="en-GB" sz="1200" spc="-1" strike="noStrike">
                <a:solidFill>
                  <a:srgbClr val="ff00ff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ff00ff"/>
                </a:solidFill>
                <a:latin typeface="Comic Sans MS"/>
              </a:rPr>
              <a:t>(t)-R(t)) </a:t>
            </a:r>
            <a:r>
              <a:rPr b="0" lang="en-GB" sz="1800" spc="-1" strike="noStrike">
                <a:solidFill>
                  <a:srgbClr val="ff6633"/>
                </a:solidFill>
                <a:latin typeface="Comic Sans MS"/>
              </a:rPr>
              <a:t>+ u · v · S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3600360"/>
            <a:ext cx="360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aux de conta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aux de mise en quarant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lux de personnes qui transi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ntre les 2 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95% d'efficacité du vac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v :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aux de personnes vaccinées par j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79640" y="1800360"/>
            <a:ext cx="252360" cy="1620720"/>
          </a:xfrm>
          <a:custGeom>
            <a:avLst/>
            <a:gdLst>
              <a:gd name="textAreaLeft" fmla="*/ 161280 w 252360"/>
              <a:gd name="textAreaRight" fmla="*/ 252720 w 252360"/>
              <a:gd name="textAreaTop" fmla="*/ 42120 h 1620720"/>
              <a:gd name="textAreaBottom" fmla="*/ 157860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4720" y="379440"/>
            <a:ext cx="6394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Données acquis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4130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813280"/>
            <a:ext cx="536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Données fournies par le médecin cant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559640" y="4140360"/>
            <a:ext cx="102888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éthodologie</a:t>
            </a: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4720" y="1440000"/>
            <a:ext cx="63946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i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pace clos, divisé en 2 sites avec 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tervalle de temps = 7sema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e semaine = 7 jours de c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 dose suffit pour être vacci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ériode d'incubation nu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-6 jours pour être mis en quarant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iquement les 10% initialement non vaccinées sont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s en compte dans notre mod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 = Flux (Unil -&gt; EPFL) = Flux (EPFL -&gt; Un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se en quarantaine = guérison, donc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= taux de guérison = taux de mise en quarant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éthodologie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0360" y="1447920"/>
            <a:ext cx="72010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itions initia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 Durée de la campagne 19 jours à partir de la 3ème se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Nombre de personnes non-vaccinées S(t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(t=0) = 2500 dont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00 (Un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00 (EPF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 Nombre de personnes infectées I(t) et immunisées R(t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(t=0) = 2 et R(t=0)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Nombre total de personnes vaccinées = 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Nombre total d'infectés =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18920" y="1537920"/>
            <a:ext cx="63882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lcul de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e personne contagieuse sera détectée et 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arantaine en moyenne 5-6 jours après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 taux de guérison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est donc d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2/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(approxi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cherche de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ix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 recherche les valeurs les plus proch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réalité à l’aide de la formule suiv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 37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UNI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12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it le plus peti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132000" y="4137120"/>
            <a:ext cx="3527640" cy="722160"/>
            <a:chOff x="3132000" y="4137120"/>
            <a:chExt cx="3527640" cy="722160"/>
          </a:xfrm>
        </p:grpSpPr>
        <p:sp>
          <p:nvSpPr>
            <p:cNvPr id="143" name=""/>
            <p:cNvSpPr/>
            <p:nvPr/>
          </p:nvSpPr>
          <p:spPr>
            <a:xfrm>
              <a:off x="3133800" y="4138560"/>
              <a:ext cx="3525840" cy="719280"/>
            </a:xfrm>
            <a:prstGeom prst="rect">
              <a:avLst/>
            </a:prstGeom>
            <a:gradFill rotWithShape="0">
              <a:gsLst>
                <a:gs pos="0">
                  <a:srgbClr val="c90792"/>
                </a:gs>
                <a:gs pos="100000">
                  <a:srgbClr val="e309a5">
                    <a:alpha val="1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4137120"/>
              <a:ext cx="35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0" y="4857840"/>
              <a:ext cx="35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32000" y="4137120"/>
              <a:ext cx="180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7840" y="4137120"/>
              <a:ext cx="180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03280" y="1413000"/>
            <a:ext cx="3119400" cy="3598560"/>
            <a:chOff x="1403280" y="1413000"/>
            <a:chExt cx="3119400" cy="3598560"/>
          </a:xfrm>
        </p:grpSpPr>
        <p:sp>
          <p:nvSpPr>
            <p:cNvPr id="150" name=""/>
            <p:cNvSpPr/>
            <p:nvPr/>
          </p:nvSpPr>
          <p:spPr>
            <a:xfrm>
              <a:off x="3521160" y="47480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.26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35120" y="47480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03280" y="47480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1160" y="4486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3.7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5120" y="4486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4486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21160" y="4222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5120" y="4222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3280" y="4222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1160" y="3960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1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35120" y="3960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03280" y="3960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1160" y="3699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3699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3280" y="3699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1160" y="34369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3.2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5120" y="34369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3280" y="34369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1160" y="31748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6.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35120" y="31748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03280" y="31748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1160" y="291132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7.8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35120" y="291132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03280" y="291132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1160" y="26496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.0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5120" y="26496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03280" y="26496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1160" y="2462040"/>
              <a:ext cx="100008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86.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35120" y="2462040"/>
              <a:ext cx="9860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03280" y="2462040"/>
              <a:ext cx="11318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1160" y="2200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72.5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35120" y="2200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03280" y="2200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1160" y="1936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997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35120" y="1936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03280" y="1936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1160" y="1674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07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35120" y="1674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674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1160" y="1413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35120" y="1413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ct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1413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09600" indent="-309600" algn="ctr">
                <a:lnSpc>
                  <a:spcPct val="64000"/>
                </a:lnSpc>
                <a:tabLst>
                  <a:tab algn="l" pos="0"/>
                  <a:tab algn="l" pos="309600"/>
                  <a:tab algn="l" pos="757080"/>
                  <a:tab algn="l" pos="1206360"/>
                  <a:tab algn="l" pos="1655640"/>
                  <a:tab algn="l" pos="2104920"/>
                  <a:tab algn="l" pos="2554200"/>
                  <a:tab algn="l" pos="3003480"/>
                  <a:tab algn="l" pos="3452760"/>
                  <a:tab algn="l" pos="3902040"/>
                  <a:tab algn="l" pos="4351320"/>
                  <a:tab algn="l" pos="4800600"/>
                  <a:tab algn="l" pos="5249880"/>
                  <a:tab algn="l" pos="5699160"/>
                  <a:tab algn="l" pos="6148440"/>
                  <a:tab algn="l" pos="6597720"/>
                  <a:tab algn="l" pos="7047000"/>
                  <a:tab algn="l" pos="7496280"/>
                  <a:tab algn="l" pos="7945560"/>
                  <a:tab algn="l" pos="8394840"/>
                  <a:tab algn="l" pos="8844120"/>
                  <a:tab algn="l" pos="9293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3280" y="141300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3280" y="501012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1413000"/>
              <a:ext cx="180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21240" y="1413000"/>
              <a:ext cx="144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03640" y="1484280"/>
            <a:ext cx="3119760" cy="3602160"/>
            <a:chOff x="5003640" y="1484280"/>
            <a:chExt cx="3119760" cy="3602160"/>
          </a:xfrm>
        </p:grpSpPr>
        <p:sp>
          <p:nvSpPr>
            <p:cNvPr id="198" name=""/>
            <p:cNvSpPr/>
            <p:nvPr/>
          </p:nvSpPr>
          <p:spPr>
            <a:xfrm>
              <a:off x="7121520" y="4859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1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5840" y="4859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8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03640" y="4859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32958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21520" y="46339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5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35840" y="46339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03640" y="46339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1520" y="44085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9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35840" y="44085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3640" y="44085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1520" y="41832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2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35840" y="41832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9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3640" y="41832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21520" y="395460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35840" y="395460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3640" y="395460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21520" y="372888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0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35840" y="372888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03640" y="372888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21520" y="35035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3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35840" y="35035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8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03640" y="35035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21520" y="32781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4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35840" y="32781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03640" y="32781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1520" y="30528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8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35840" y="30528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03640" y="30528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21520" y="28274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5840" y="28274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03640" y="28274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21520" y="26020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2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35840" y="26020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03640" y="26020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21520" y="237636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8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35840" y="237636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3640" y="237636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1520" y="214956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.48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5840" y="214956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0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3640" y="214956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21520" y="1935000"/>
              <a:ext cx="1000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8.7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35840" y="1935000"/>
              <a:ext cx="985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03640" y="1935000"/>
              <a:ext cx="1132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21520" y="17096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8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5840" y="17096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03640" y="17096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21520" y="1484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5840" y="1484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03640" y="1484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3640" y="148428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3640" y="508464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0364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12160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59280" y="5940360"/>
            <a:ext cx="2675160" cy="601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403280" y="6083280"/>
            <a:ext cx="476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0440" indent="-127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604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4856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4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Formule d'optimisation des paramètr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aramètres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32000" y="1412640"/>
            <a:ext cx="63878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 u et v de la vacc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ient à t = 18, S(0) = 2500 et S(18) = 1000, on 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S/d(t) = - v · S(t)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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 = -log(S(t)/2500)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el que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 = 0.050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t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u =  efficacité du vaccin = 9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960640" y="3672000"/>
            <a:ext cx="377208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Dynamique des population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40360" cy="3036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865680" cy="3025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84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8880" y="486900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-465480" y="296820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637800" y="310788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75960" y="479736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8360" y="4643280"/>
            <a:ext cx="431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2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4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6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8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10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1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3280" y="4608360"/>
            <a:ext cx="4140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2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4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6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8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10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0720" y="1671480"/>
            <a:ext cx="53964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1697040"/>
            <a:ext cx="53964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6072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95640" y="36003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4211640"/>
            <a:ext cx="181080" cy="181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ae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1881360"/>
            <a:ext cx="9000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S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1636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3502080"/>
            <a:ext cx="5396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R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4356000"/>
            <a:ext cx="180720" cy="181080"/>
          </a:xfrm>
          <a:prstGeom prst="downArrow">
            <a:avLst>
              <a:gd name="adj1" fmla="val 50000"/>
              <a:gd name="adj2" fmla="val 25050"/>
            </a:avLst>
          </a:prstGeom>
          <a:solidFill>
            <a:srgbClr val="00ae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395928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072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363708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32360" y="1881360"/>
            <a:ext cx="9003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S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48360" y="3502080"/>
            <a:ext cx="5396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R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Effet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0200" y="5761080"/>
            <a:ext cx="17287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59280" y="1589040"/>
            <a:ext cx="4073760" cy="3470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65120" y="1619280"/>
            <a:ext cx="4035600" cy="344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84240" y="5067360"/>
            <a:ext cx="73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1000" y="5067360"/>
            <a:ext cx="73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-1425600" y="3429000"/>
            <a:ext cx="3421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 chaque j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0320" y="1341360"/>
            <a:ext cx="2402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4040" y="1341360"/>
            <a:ext cx="2407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270036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28000" y="436572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1989000"/>
            <a:ext cx="1620720" cy="1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4437000"/>
            <a:ext cx="8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0000" y="450072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000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8560" y="2160720"/>
            <a:ext cx="162072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91280" y="3240000"/>
            <a:ext cx="8287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3068640"/>
            <a:ext cx="9000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80360" y="395928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099280" y="32400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99280" y="2160720"/>
            <a:ext cx="360360" cy="18072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" y="1800360"/>
            <a:ext cx="3888000" cy="1440"/>
          </a:xfrm>
          <a:prstGeom prst="line">
            <a:avLst/>
          </a:prstGeom>
          <a:ln w="19080">
            <a:solidFill>
              <a:srgbClr val="e30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905000" y="4719600"/>
            <a:ext cx="3940200" cy="1800"/>
          </a:xfrm>
          <a:prstGeom prst="line">
            <a:avLst/>
          </a:prstGeom>
          <a:ln w="19080">
            <a:solidFill>
              <a:srgbClr val="e30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8000" y="1773360"/>
            <a:ext cx="395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309a5"/>
                </a:solidFill>
                <a:latin typeface="Times New Roman"/>
              </a:rPr>
              <a:t>12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4653000"/>
            <a:ext cx="395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309a5"/>
                </a:solidFill>
                <a:latin typeface="Times New Roman"/>
              </a:rPr>
              <a:t>12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3074760" y="2889000"/>
            <a:ext cx="3421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 chaque j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24360" y="4930920"/>
            <a:ext cx="41403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2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3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4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5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6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79640" y="5759280"/>
            <a:ext cx="1440" cy="181080"/>
          </a:xfrm>
          <a:prstGeom prst="smileyFace">
            <a:avLst>
              <a:gd name="adj" fmla="val 465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360" y="4932360"/>
            <a:ext cx="41403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2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  3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4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5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6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0360" y="1836720"/>
            <a:ext cx="36036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51280" y="1728720"/>
            <a:ext cx="360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8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6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0000" y="1440000"/>
            <a:ext cx="7200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Résulta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mbre de personnes infectées selon nos donné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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9 perso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mbre de personnes infectées selon notre modèl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 avec campagne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8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± 1 perso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sans campagne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413 personnes (risques encour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de personnes épargnées 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88.38%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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365 personn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accination efficace et recommandée selon notre mod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23623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Objectif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0000" y="1503000"/>
            <a:ext cx="720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udier le modèle simple 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liquer et Interprèter le modèle SIR sur un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’épidémie actu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omic Sans MS"/>
              </a:rPr>
              <a:t>Epidémie de la Rougeole à l'Unil-EPF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apter ce modèle à notre cas particulier afin d’évalu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l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efficacité de la campagne de vaccinati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1440" y="1371600"/>
            <a:ext cx="5721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1628640"/>
            <a:ext cx="1447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133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407664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5805360"/>
            <a:ext cx="97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6147-708B-4E28-BFE3-B41E6B96A9E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57592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60360" y="1440000"/>
            <a:ext cx="774072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mites du modèl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e nombre de personnes infectées chaque jour de notre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mod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e réflétent pas la réalité de nos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donné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ors de la 3ème semaine par exemple, on a pic d'activité qui p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u simple au doubl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979640" y="1800360"/>
            <a:ext cx="5761080" cy="3421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500720" y="5189400"/>
            <a:ext cx="738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370080" y="3360240"/>
            <a:ext cx="3368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 chaque j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60720" y="5075280"/>
            <a:ext cx="611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  2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  3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  4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 5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6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24000" y="1914480"/>
            <a:ext cx="36036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19280" y="3240000"/>
            <a:ext cx="1081080" cy="1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3456000"/>
            <a:ext cx="181080" cy="36036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203640" y="2769480"/>
            <a:ext cx="288720" cy="36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40360" y="3456000"/>
            <a:ext cx="46836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341964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11640" y="3780000"/>
            <a:ext cx="181080" cy="36036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56000" y="5327640"/>
            <a:ext cx="46836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471636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360" y="485928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57592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60360" y="1440000"/>
            <a:ext cx="774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mites du modèl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 ne peut estimer précisemment le nombre exact d'infec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n jour donné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éanmois, notre modèle suffit à prédire que ce pic d'activ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54000"/>
              </a:lnSpc>
              <a:spcBef>
                <a:spcPts val="499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e déroulera lors de la 3 semaine et à estimer la fin de l'épidém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908000" y="1792440"/>
            <a:ext cx="5653440" cy="36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11080" y="1439640"/>
            <a:ext cx="656892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ésence des étudiants sur le site que 5 jours de la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maine sur les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nir compte des flux extérieurs à notre systè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terpreter l’influence que le TSOL pourrait avoir comme lieu à hauts risques de contamination, en considérant le TSOL comme 3èm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Annexe : codes du modè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3673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 y=f(x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= 0.008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=0.000232958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=2/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=0.95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=0.050905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(t&gt;=14 &amp; t&lt;=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 -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 + 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 -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 +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00720" y="1197000"/>
            <a:ext cx="42116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’épidémi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31687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’épidémi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qu’est-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c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épidémie signi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augmentation ra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 l’incidence d’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thologie en un lie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sur un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n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11640" y="1798560"/>
            <a:ext cx="4608360" cy="3176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51640" y="5041800"/>
            <a:ext cx="1728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828160" y="3240000"/>
            <a:ext cx="2472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 infect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4896000"/>
            <a:ext cx="48607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8956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4720"/>
                <a:tab algn="l" pos="9414000"/>
                <a:tab algn="l" pos="98632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                        2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4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8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100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             1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3640" y="2139840"/>
            <a:ext cx="3603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19640" y="1368360"/>
            <a:ext cx="43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Nombre de personnes infectées 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présentes sur le campus à un temps don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ntérêts du modè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4360" y="1079640"/>
            <a:ext cx="639468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modèle SIR permet de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57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sualiser graphiquement la propagation d’une maladie au sein d’un espace clos et son év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57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'évaluer et prévoir les risques d'épidémie, sa durée ainsi que son pic d'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734080"/>
            <a:ext cx="180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4360" y="1460160"/>
            <a:ext cx="671364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S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personn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aines susceptibl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e contracter la mal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s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nfect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mmunis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u décéd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7340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564804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700280"/>
            <a:ext cx="36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dS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-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dI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 -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R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700280"/>
            <a:ext cx="32036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 : taux de conta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vitesse de transmi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3120" indent="-303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03120"/>
                <a:tab algn="l" pos="750960"/>
                <a:tab algn="l" pos="1200240"/>
                <a:tab algn="l" pos="164952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: taux de gué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565360"/>
            <a:ext cx="252360" cy="1800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fectionnement du modè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7136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avons améliorer le modèle de manière à pre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 considé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flux des personn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qui se déplacent entre les sites d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IL-EPF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a campagne de vaccin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du lundi 23 mars au vendredi 11 avril soit 19 j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79640" y="1260360"/>
            <a:ext cx="755964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601280" y="1842840"/>
            <a:ext cx="66056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Le flux de personnes entre les 2 si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3645000"/>
            <a:ext cx="5761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4211640"/>
            <a:ext cx="64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 = flux de personnes qui transitent entre les 2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4720" y="379440"/>
            <a:ext cx="6394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71640" y="2519280"/>
            <a:ext cx="42847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résentation PowerPoint</dc:title>
</cp:coreProperties>
</file>